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840-0BB8-4B12-A4A7-60C360DA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0FA-8C79-4AC7-BF30-DA43597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39C-AB7C-4925-B681-2E24ED9A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E74-B2D3-4CE0-9666-521CBFD5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81D-3B92-46B4-95F6-1E76EFA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92F-D997-4D54-9244-7EA96BF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8F6-42AD-4128-9DAC-52394106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D5F-B676-4C6D-8A5A-C8C05AE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663-0993-4A8D-B2FB-30929CD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5A5-E190-493E-A770-57FF14A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776-9B61-4DE0-828D-E981A9D6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913-0096-44CF-A486-1E80870D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C9A-3AD3-499C-B03A-E2A83B90C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verh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ЕРХНЕТОЙДЕНСКОГО СЕЛЬСКОГО/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ЕРХНЕТОЙДЕНСКОЕ СЕЛЬСКОЕ 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Верхне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7.12.2023г.  №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 Верхнетойденского сельского  поселения на 2024 год и на плановый период 2025 и 2026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4280" y="928800"/>
          <a:ext cx="6786720" cy="2643120"/>
        </p:xfrm>
        <a:graphic>
          <a:graphicData uri="http://schemas.openxmlformats.org/drawingml/2006/table">
            <a:tbl>
              <a:tblPr/>
              <a:tblGrid>
                <a:gridCol w="797040"/>
                <a:gridCol w="4197240"/>
                <a:gridCol w="797040"/>
                <a:gridCol w="995400"/>
              </a:tblGrid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84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85960" y="703440"/>
          <a:ext cx="5715000" cy="2796840"/>
        </p:xfrm>
        <a:graphic>
          <a:graphicData uri="http://schemas.openxmlformats.org/drawingml/2006/table">
            <a:tbl>
              <a:tblPr/>
              <a:tblGrid>
                <a:gridCol w="669960"/>
                <a:gridCol w="3535200"/>
                <a:gridCol w="671760"/>
                <a:gridCol w="838080"/>
              </a:tblGrid>
              <a:tr h="39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3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85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2" descr=""/>
          <p:cNvPicPr/>
          <p:nvPr/>
        </p:nvPicPr>
        <p:blipFill>
          <a:blip r:embed="rId2"/>
          <a:stretch/>
        </p:blipFill>
        <p:spPr>
          <a:xfrm>
            <a:off x="493560" y="3638520"/>
            <a:ext cx="8229600" cy="29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1" descr=""/>
          <p:cNvPicPr/>
          <p:nvPr/>
        </p:nvPicPr>
        <p:blipFill>
          <a:blip r:embed="rId3"/>
          <a:stretch/>
        </p:blipFill>
        <p:spPr>
          <a:xfrm>
            <a:off x="853920" y="4138560"/>
            <a:ext cx="79614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Верхнетойденского сельского        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95120" y="1054080"/>
            <a:ext cx="882648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28840" y="4357800"/>
          <a:ext cx="6286320" cy="1500120"/>
        </p:xfrm>
        <a:graphic>
          <a:graphicData uri="http://schemas.openxmlformats.org/drawingml/2006/table">
            <a:tbl>
              <a:tblPr/>
              <a:tblGrid>
                <a:gridCol w="4911480"/>
                <a:gridCol w="1374840"/>
              </a:tblGrid>
              <a:tr h="46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8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_Верхнетойденского сельского_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Верхнетойден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Короткова Ольга Олег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10, Воронежская область, Аннинский район, с.Верхняя Тойда, ул.Ленина,д.4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4-45-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verhtoyd.anna@govvrn.ru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Верхнетойденского сельского поселения на 2024 год и на плановый период 2025 и 2026 годов сформирован в программном формате. Всего на данный момент в Верхне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5000760"/>
            <a:ext cx="707220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Верхнетойденского сельского поселения и управления финансами в поселении 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62668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Верхне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65240" y="1600200"/>
          <a:ext cx="7013520" cy="4525920"/>
        </p:xfrm>
        <a:graphic>
          <a:graphicData uri="http://schemas.openxmlformats.org/drawingml/2006/table">
            <a:tbl>
              <a:tblPr/>
              <a:tblGrid>
                <a:gridCol w="1403280"/>
                <a:gridCol w="1401840"/>
                <a:gridCol w="1403280"/>
                <a:gridCol w="1401840"/>
                <a:gridCol w="1403280"/>
              </a:tblGrid>
              <a:tr h="19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8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8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2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98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41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82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2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98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41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 0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Верхне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1143000"/>
          <a:ext cx="7786800" cy="2000160"/>
        </p:xfrm>
        <a:graphic>
          <a:graphicData uri="http://schemas.openxmlformats.org/drawingml/2006/table">
            <a:tbl>
              <a:tblPr/>
              <a:tblGrid>
                <a:gridCol w="1614600"/>
                <a:gridCol w="1542960"/>
                <a:gridCol w="1542960"/>
                <a:gridCol w="1542960"/>
                <a:gridCol w="154332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79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8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2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9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4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8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2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9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4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 0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8" descr=""/>
          <p:cNvPicPr/>
          <p:nvPr/>
        </p:nvPicPr>
        <p:blipFill>
          <a:blip r:embed="rId2"/>
          <a:stretch/>
        </p:blipFill>
        <p:spPr>
          <a:xfrm>
            <a:off x="706320" y="3279600"/>
            <a:ext cx="7583760" cy="251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633240"/>
            <a:ext cx="8955000" cy="35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571760" y="3929040"/>
          <a:ext cx="6000480" cy="2855880"/>
        </p:xfrm>
        <a:graphic>
          <a:graphicData uri="http://schemas.openxmlformats.org/drawingml/2006/table">
            <a:tbl>
              <a:tblPr/>
              <a:tblGrid>
                <a:gridCol w="2560680"/>
                <a:gridCol w="1719000"/>
                <a:gridCol w="1720800"/>
              </a:tblGrid>
              <a:tr h="152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3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7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3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3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81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3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1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6" descr=""/>
          <p:cNvPicPr/>
          <p:nvPr/>
        </p:nvPicPr>
        <p:blipFill>
          <a:blip r:embed="rId2"/>
          <a:stretch/>
        </p:blipFill>
        <p:spPr>
          <a:xfrm>
            <a:off x="493560" y="781200"/>
            <a:ext cx="8143920" cy="57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6</cp:lastModifiedBy>
  <dcterms:modified xsi:type="dcterms:W3CDTF">2024-06-24T13:42:38Z</dcterms:modified>
  <cp:revision>62</cp:revision>
  <dc:subject/>
  <dc:title>Слайд 1</dc:title>
</cp:coreProperties>
</file>