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EA10-15CE-4B6F-A29E-A6C947C63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965F-790A-43CE-9DFB-4EE4650FF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5F0-97F0-430B-9A72-24EE1B40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A62-462E-4160-B2CD-6F4A3F1E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6E7-6732-4A17-87B7-178BE69B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CF2-6502-40F0-A83E-07ECCB64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4C4-221D-4D56-A24F-11D78598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6CE-D8EE-4385-8208-A5CF6878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17C-C2AE-4072-965A-744FBA59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ED9-B0B6-458B-899F-E55E3039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BF8-5E4B-411D-83AB-A58B52D5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13D-01D8-4163-A800-BA8C192D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46F-2ADE-417C-A0D2-543068CC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D63-F411-4500-B501-91E4A815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6E12-F5C8-4FC4-9933-60B26949ED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ubash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РУБАШЕ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РУБАШЕВСКОЕ СЕЛЬСКОЕ ПОСЕЛЕНИЕ,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решению Совета народных депутатов Рубаше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29.12.2023 №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Рубашевского сельского поселения на 2024 год и на плановый период 2025 и 2026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928880" y="928800"/>
          <a:ext cx="5194080" cy="255744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892440"/>
                <a:gridCol w="47916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3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00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77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9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76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5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42" name="Диаграмма 11" descr=""/>
          <p:cNvPicPr/>
          <p:nvPr/>
        </p:nvPicPr>
        <p:blipFill>
          <a:blip r:embed="rId2"/>
          <a:stretch/>
        </p:blipFill>
        <p:spPr>
          <a:xfrm>
            <a:off x="-6480" y="3425760"/>
            <a:ext cx="9017280" cy="343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Диаграмма 10" descr=""/>
          <p:cNvPicPr/>
          <p:nvPr/>
        </p:nvPicPr>
        <p:blipFill>
          <a:blip r:embed="rId3"/>
          <a:stretch/>
        </p:blipFill>
        <p:spPr>
          <a:xfrm>
            <a:off x="133200" y="4138560"/>
            <a:ext cx="8802720" cy="258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Рубашев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054080"/>
            <a:ext cx="8899200" cy="24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8" name="TextBox 25"/>
          <p:cNvSpPr/>
          <p:nvPr/>
        </p:nvSpPr>
        <p:spPr>
          <a:xfrm>
            <a:off x="1463760" y="3571920"/>
            <a:ext cx="58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Рубаше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42920" y="1071720"/>
            <a:ext cx="871524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Рубашев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виридов Василий Анатол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96222, Воронежская область, Аннинский райо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ёлок Рубашевка, ул.Советская,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8473465-11-1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rubash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63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83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Рубашевского сельского поселения на 2024 год и на плановый период 2025 и 2026 годов сформирован в программном формате. Всего на данный момент в Рубашевском сельском поселении разработана и утверждена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8">
            <a:hlinkClick r:id="rId2" action="ppaction://hlinksldjump"/>
          </p:cNvPr>
          <p:cNvSpPr/>
          <p:nvPr/>
        </p:nvSpPr>
        <p:spPr>
          <a:xfrm>
            <a:off x="1285920" y="4572000"/>
            <a:ext cx="69292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Развитие  Рубашевского сельского поселения и управление финансами в поселении»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7" descr=""/>
          <p:cNvPicPr/>
          <p:nvPr/>
        </p:nvPicPr>
        <p:blipFill>
          <a:blip r:embed="rId3"/>
          <a:stretch/>
        </p:blipFill>
        <p:spPr>
          <a:xfrm>
            <a:off x="341280" y="969840"/>
            <a:ext cx="8521560" cy="27669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0" y="214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Рубашев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Рубаше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: фигура 7"/>
          <p:cNvSpPr/>
          <p:nvPr/>
        </p:nvSpPr>
        <p:spPr>
          <a:xfrm>
            <a:off x="2357280" y="5572080"/>
            <a:ext cx="207180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=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00040" y="1071720"/>
          <a:ext cx="8215200" cy="158904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БЮДЖ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 БЮДЖ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2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 7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59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79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3 6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6 87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59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79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3 6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1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1 08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Диаграмма 15" descr=""/>
          <p:cNvPicPr/>
          <p:nvPr/>
        </p:nvPicPr>
        <p:blipFill>
          <a:blip r:embed="rId2"/>
          <a:stretch/>
        </p:blipFill>
        <p:spPr>
          <a:xfrm>
            <a:off x="133200" y="2919240"/>
            <a:ext cx="8798040" cy="351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хема 25" descr=""/>
          <p:cNvPicPr/>
          <p:nvPr/>
        </p:nvPicPr>
        <p:blipFill>
          <a:blip r:embed="rId2"/>
          <a:stretch/>
        </p:blipFill>
        <p:spPr>
          <a:xfrm>
            <a:off x="96840" y="-6480"/>
            <a:ext cx="8955000" cy="522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571680" y="3571920"/>
          <a:ext cx="7929360" cy="3143160"/>
        </p:xfrm>
        <a:graphic>
          <a:graphicData uri="http://schemas.openxmlformats.org/drawingml/2006/table">
            <a:tbl>
              <a:tblPr/>
              <a:tblGrid>
                <a:gridCol w="4071600"/>
                <a:gridCol w="1928880"/>
                <a:gridCol w="1928880"/>
              </a:tblGrid>
              <a:tr h="176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4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2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76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8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9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Диаграмма 9" descr=""/>
          <p:cNvPicPr/>
          <p:nvPr/>
        </p:nvPicPr>
        <p:blipFill>
          <a:blip r:embed="rId2"/>
          <a:stretch/>
        </p:blipFill>
        <p:spPr>
          <a:xfrm>
            <a:off x="506520" y="706320"/>
            <a:ext cx="8130960" cy="587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55</cp:lastModifiedBy>
  <dcterms:modified xsi:type="dcterms:W3CDTF">2024-06-25T08:15:42Z</dcterms:modified>
  <cp:revision>76</cp:revision>
  <dc:subject/>
  <dc:title>Слайд 1</dc:title>
</cp:coreProperties>
</file>