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D68-FE1D-40B6-B13B-2A6F1DEC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ADB-41CE-4E3A-BD45-6C78929E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5E6-4F31-41C1-B3FE-08CF3F56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1B7-129F-4EEF-BEC5-7835BD87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A95-FFFB-49EE-955B-F0F7ECD0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C55-540B-49C5-A9A1-8BBEBC3C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702-ADCB-476F-A581-9B3842BC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8CF-FF35-426C-8815-8B9530BE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2F9-D7C0-4E69-8BB4-AAB8DF0C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289-CFE0-42C9-9A9A-9BE62BC3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5DC-FE60-4D3D-B76A-B0BC531B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F8A-1ADA-4CC0-8BB7-66914EEF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F244-D104-4CBC-95B4-C574D7259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ubash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РУБАШЕВСКОГО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6430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РУБАШЕВСКОЕ СЕЛЬСКОЕ ПОСЕЛЕНИЕ,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Рубашевского сель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Рубашевского сельского поселения в 2023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00120" y="1357200"/>
          <a:ext cx="6096240" cy="2689200"/>
        </p:xfrm>
        <a:graphic>
          <a:graphicData uri="http://schemas.openxmlformats.org/drawingml/2006/table">
            <a:tbl>
              <a:tblPr/>
              <a:tblGrid>
                <a:gridCol w="538200"/>
                <a:gridCol w="2841480"/>
                <a:gridCol w="1263960"/>
                <a:gridCol w="1000080"/>
                <a:gridCol w="452520"/>
              </a:tblGrid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4000">
                <a:tc>
                  <a:txBody>
                    <a:bodyPr lIns="303120" rIns="0" tIns="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ХОДЫ,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87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87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8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8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7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4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4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475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жбюджетные трансферты общего характера бюджетам муниципальных образова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Рубашевского  сель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Диаграмма 11" descr=""/>
          <p:cNvPicPr/>
          <p:nvPr/>
        </p:nvPicPr>
        <p:blipFill>
          <a:blip r:embed="rId2"/>
          <a:stretch/>
        </p:blipFill>
        <p:spPr>
          <a:xfrm>
            <a:off x="420840" y="1352520"/>
            <a:ext cx="84312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14" descr=""/>
          <p:cNvPicPr/>
          <p:nvPr/>
        </p:nvPicPr>
        <p:blipFill>
          <a:blip r:embed="rId3"/>
          <a:stretch/>
        </p:blipFill>
        <p:spPr>
          <a:xfrm>
            <a:off x="420840" y="3852720"/>
            <a:ext cx="8442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571680" y="1720800"/>
            <a:ext cx="81435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Рубашевского сельского поселения за 2023 год дефицитный (расходы превысили доходы на 1088,7 тыс.руб.). Денежные средства на покрытие дефицита взяты с остатков средств  бюджета на начало 01.01.2023г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3г. составило – 82,8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42920" y="1071720"/>
            <a:ext cx="871524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Рубаше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виридов Василий Анато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22, Воронежская облас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инский район, посёлок Рубашевка, ул.Советская,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473-465-11-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ubash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Рубашев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Рубашевского сельского поселения Аннинского муниципального района в 2023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Рубашевского поселения за 202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8880" y="1071720"/>
          <a:ext cx="5381640" cy="1749240"/>
        </p:xfrm>
        <a:graphic>
          <a:graphicData uri="http://schemas.openxmlformats.org/drawingml/2006/table">
            <a:tbl>
              <a:tblPr/>
              <a:tblGrid>
                <a:gridCol w="504720"/>
                <a:gridCol w="1219320"/>
                <a:gridCol w="1218960"/>
                <a:gridCol w="1219320"/>
                <a:gridCol w="1219320"/>
              </a:tblGrid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 747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 781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678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713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06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068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 870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 870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1 123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1 088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118" name="Диаграмма 8" descr=""/>
          <p:cNvPicPr/>
          <p:nvPr/>
        </p:nvPicPr>
        <p:blipFill>
          <a:blip r:embed="rId2"/>
          <a:stretch/>
        </p:blipFill>
        <p:spPr>
          <a:xfrm>
            <a:off x="1566720" y="3067200"/>
            <a:ext cx="5888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42920" y="3571920"/>
          <a:ext cx="8858160" cy="3128760"/>
        </p:xfrm>
        <a:graphic>
          <a:graphicData uri="http://schemas.openxmlformats.org/drawingml/2006/table">
            <a:tbl>
              <a:tblPr/>
              <a:tblGrid>
                <a:gridCol w="3890880"/>
                <a:gridCol w="1655640"/>
                <a:gridCol w="1656000"/>
                <a:gridCol w="1655640"/>
              </a:tblGrid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3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3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34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3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74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78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142920" y="14292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Рубашевского сель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20920"/>
            <a:ext cx="4979880" cy="491328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1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2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3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4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rubash</cp:lastModifiedBy>
  <dcterms:modified xsi:type="dcterms:W3CDTF">2024-06-20T12:17:26Z</dcterms:modified>
  <cp:revision>97</cp:revision>
  <dc:subject/>
  <dc:title>Слайд 1</dc:title>
</cp:coreProperties>
</file>