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FEE-BCD3-43D6-87C9-297097AE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9FD-29D2-4C8E-9416-D46FE450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03C-06E4-4E33-B77E-342EDBBB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C01-D60D-49D9-A647-F4BD8B25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E33-8A41-4A5D-B3DE-9A53B7C7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DC4-7FE9-455B-AAF6-6D408F8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583-FE7B-415A-BE70-C46CC17A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28F-F45E-4611-8A30-6805137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7E1-82DB-4E04-8831-6305F18C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5C0-8220-4E06-81E0-E8D4789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44B-0183-4495-BFF7-2F59EC9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FB7-149A-4B2F-BE68-E8A18C7D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526-76BB-4C39-AB1D-49C604C0F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РУБАШЕВСКОГО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Рубашев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Рубашевского сель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68920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263960"/>
                <a:gridCol w="1000080"/>
                <a:gridCol w="452520"/>
              </a:tblGrid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000">
                <a:tc>
                  <a:txBody>
                    <a:bodyPr lIns="303120" rIns="0" tIns="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Ы,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7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8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муниципальных образов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Рубашевского 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11" descr=""/>
          <p:cNvPicPr/>
          <p:nvPr/>
        </p:nvPicPr>
        <p:blipFill>
          <a:blip r:embed="rId2"/>
          <a:stretch/>
        </p:blipFill>
        <p:spPr>
          <a:xfrm>
            <a:off x="420840" y="1352520"/>
            <a:ext cx="84312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14" descr=""/>
          <p:cNvPicPr/>
          <p:nvPr/>
        </p:nvPicPr>
        <p:blipFill>
          <a:blip r:embed="rId3"/>
          <a:stretch/>
        </p:blipFill>
        <p:spPr>
          <a:xfrm>
            <a:off x="420840" y="3852720"/>
            <a:ext cx="8442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Рубашевского сельского поселения за 2023 год дефицитный (расходы превысили доходы на 1088,7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2,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ий район, 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-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Рубашевского сель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Рубашев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74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 78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78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713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6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68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87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87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 123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 088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8" descr=""/>
          <p:cNvPicPr/>
          <p:nvPr/>
        </p:nvPicPr>
        <p:blipFill>
          <a:blip r:embed="rId2"/>
          <a:stretch/>
        </p:blipFill>
        <p:spPr>
          <a:xfrm>
            <a:off x="1566720" y="3067200"/>
            <a:ext cx="5888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31287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34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3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74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78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Рубашев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4-06-25T08:03:39Z</dcterms:modified>
  <cp:revision>98</cp:revision>
  <dc:subject/>
  <dc:title>Слайд 1</dc:title>
</cp:coreProperties>
</file>