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DFBB-3C52-43B5-B586-E7056EFB4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37AD-0FFD-4D14-83CB-C7A88A1F9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E18-62F6-47D2-9744-FA4B2E18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952-2BFB-49B2-AC10-C11D119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BD1-F39B-4FA7-AFD5-DB17C66D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DAD-7809-47B1-8B10-B84DE677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94A-4CE5-4DC5-93BC-AA42CFC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1B5-39A1-4C86-8D08-AFC35DD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803-6C36-4D43-A8CC-05C29E1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4DA-1A28-4B69-89C1-7F4FBB18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402-4A5E-48AD-9647-7ADB0C7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DD5-284C-4DC0-8DA2-304D14F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915-DD86-4C60-8B48-5BD6616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D42-07D2-4A37-80CA-683C5346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4C3-D968-48D2-802B-64D4734EB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решению Совета народных депутатов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4.12.2024 №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Рубашевского сельского поселения на 2025 год и на плановый период 2026 и 2027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57200" y="785880"/>
          <a:ext cx="5643720" cy="2628720"/>
        </p:xfrm>
        <a:graphic>
          <a:graphicData uri="http://schemas.openxmlformats.org/drawingml/2006/table">
            <a:tbl>
              <a:tblPr/>
              <a:tblGrid>
                <a:gridCol w="373320"/>
                <a:gridCol w="3693960"/>
                <a:gridCol w="1025640"/>
                <a:gridCol w="550800"/>
              </a:tblGrid>
              <a:tr h="39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1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7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Диаграмма 10" descr=""/>
          <p:cNvPicPr/>
          <p:nvPr/>
        </p:nvPicPr>
        <p:blipFill>
          <a:blip r:embed="rId2"/>
          <a:stretch/>
        </p:blipFill>
        <p:spPr>
          <a:xfrm>
            <a:off x="633240" y="3565440"/>
            <a:ext cx="7944120" cy="301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Диаграмма 9" descr=""/>
          <p:cNvPicPr/>
          <p:nvPr/>
        </p:nvPicPr>
        <p:blipFill>
          <a:blip r:embed="rId3"/>
          <a:stretch/>
        </p:blipFill>
        <p:spPr>
          <a:xfrm>
            <a:off x="353880" y="4206960"/>
            <a:ext cx="8436240" cy="236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8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Рубашевского сельского поселения на 2025 год и на плановый период 2026 и 2027 годов сформирован в программном формате. Всего на данный момент в Рубашевском сельском поселении разработана и утверждена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>
            <a:hlinkClick r:id="rId2" action="ppaction://hlinksldjump"/>
          </p:cNvPr>
          <p:cNvSpPr/>
          <p:nvPr/>
        </p:nvSpPr>
        <p:spPr>
          <a:xfrm>
            <a:off x="1285920" y="4572000"/>
            <a:ext cx="6929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 Рубашевского сельского поселения и управление финансами в поселении»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7" descr=""/>
          <p:cNvPicPr/>
          <p:nvPr/>
        </p:nvPicPr>
        <p:blipFill>
          <a:blip r:embed="rId3"/>
          <a:stretch/>
        </p:blipFill>
        <p:spPr>
          <a:xfrm>
            <a:off x="341280" y="969840"/>
            <a:ext cx="852156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0" y="214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Рубаш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93800" y="3138480"/>
          <a:ext cx="7556400" cy="1447920"/>
        </p:xfrm>
        <a:graphic>
          <a:graphicData uri="http://schemas.openxmlformats.org/drawingml/2006/table">
            <a:tbl>
              <a:tblPr/>
              <a:tblGrid>
                <a:gridCol w="1511280"/>
                <a:gridCol w="1511280"/>
                <a:gridCol w="1511280"/>
                <a:gridCol w="1511280"/>
                <a:gridCol w="1511280"/>
              </a:tblGrid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5 9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09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 1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0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2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: фигура 7"/>
          <p:cNvSpPr/>
          <p:nvPr/>
        </p:nvSpPr>
        <p:spPr>
          <a:xfrm>
            <a:off x="2357280" y="5572080"/>
            <a:ext cx="207180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1214280"/>
          <a:ext cx="8643960" cy="15004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9080"/>
                <a:gridCol w="1728720"/>
              </a:tblGrid>
              <a:tr h="21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3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5 9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 1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0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2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4" name="Диаграмма 24" descr=""/>
          <p:cNvPicPr/>
          <p:nvPr/>
        </p:nvPicPr>
        <p:blipFill>
          <a:blip r:embed="rId2"/>
          <a:stretch/>
        </p:blipFill>
        <p:spPr>
          <a:xfrm>
            <a:off x="208080" y="2919240"/>
            <a:ext cx="858204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-146160"/>
            <a:ext cx="9010800" cy="6937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25" descr=""/>
          <p:cNvPicPr/>
          <p:nvPr/>
        </p:nvPicPr>
        <p:blipFill>
          <a:blip r:embed="rId2"/>
          <a:stretch/>
        </p:blipFill>
        <p:spPr>
          <a:xfrm>
            <a:off x="274680" y="208080"/>
            <a:ext cx="8924760" cy="42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928800" y="3643200"/>
          <a:ext cx="7572240" cy="300060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1573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01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0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50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73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7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706320"/>
            <a:ext cx="8017200" cy="5585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иаграмма 6" descr=""/>
          <p:cNvPicPr/>
          <p:nvPr/>
        </p:nvPicPr>
        <p:blipFill>
          <a:blip r:embed="rId2"/>
          <a:stretch/>
        </p:blipFill>
        <p:spPr>
          <a:xfrm>
            <a:off x="633240" y="706320"/>
            <a:ext cx="8004240" cy="558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4-12-26T07:05:52Z</dcterms:modified>
  <cp:revision>96</cp:revision>
  <dc:subject/>
  <dc:title>Слайд 1</dc:title>
</cp:coreProperties>
</file>