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7AC6-ED1D-47FD-A018-0F6768302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EDCE-E70B-4791-99B3-F08591FBB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CCF-81A9-4EF4-AC68-D62998D9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FC4-02F9-4FD8-A304-124A3AC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94D-B2C3-4755-8C4E-6F53BA17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EC7-6FD0-4D42-B497-DB1D3171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B3D-8771-4DC6-91C1-7900161A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BA2-15F8-4138-AC86-BCBAE831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0E2-43FB-4A82-A4C9-1B33A57C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E94-6E11-4A2F-B167-761CC26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69A-0332-4E9B-87A5-2B3CBBE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578-A5F5-4B4C-985D-6B84585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28E-D7B6-4FEB-B8B0-9FEA7A9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16F-85C7-4451-B0F5-82F14E4D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B9F-BB76-400F-824C-F3E13234E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решению Совета народных депутатов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_________ №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Рубашевского сельского поселения на 2024 год и на плановый период 2025 и 2026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892440"/>
                <a:gridCol w="4791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3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77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9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Диаграмма 11" descr=""/>
          <p:cNvPicPr/>
          <p:nvPr/>
        </p:nvPicPr>
        <p:blipFill>
          <a:blip r:embed="rId2"/>
          <a:stretch/>
        </p:blipFill>
        <p:spPr>
          <a:xfrm>
            <a:off x="-6480" y="3425760"/>
            <a:ext cx="9017280" cy="34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Диаграмма 10" descr=""/>
          <p:cNvPicPr/>
          <p:nvPr/>
        </p:nvPicPr>
        <p:blipFill>
          <a:blip r:embed="rId3"/>
          <a:stretch/>
        </p:blipFill>
        <p:spPr>
          <a:xfrm>
            <a:off x="133200" y="4138560"/>
            <a:ext cx="8802720" cy="258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8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42920" y="1071720"/>
            <a:ext cx="871524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465-11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Рубашевского сельского поселения на 2024 год и на плановый период 2025 и 2026 годов сформирован в программном формате. Всего на данный момент в Рубашевском сельском поселении разработана и утверждена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>
            <a:hlinkClick r:id="rId2" action="ppaction://hlinksldjump"/>
          </p:cNvPr>
          <p:cNvSpPr/>
          <p:nvPr/>
        </p:nvSpPr>
        <p:spPr>
          <a:xfrm>
            <a:off x="1285920" y="4572000"/>
            <a:ext cx="6929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 Рубашевского сельского поселения и управление финансами в поселении»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7" descr=""/>
          <p:cNvPicPr/>
          <p:nvPr/>
        </p:nvPicPr>
        <p:blipFill>
          <a:blip r:embed="rId3"/>
          <a:stretch/>
        </p:blipFill>
        <p:spPr>
          <a:xfrm>
            <a:off x="341280" y="969840"/>
            <a:ext cx="852156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0" y="214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Рубаш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: фигура 7"/>
          <p:cNvSpPr/>
          <p:nvPr/>
        </p:nvSpPr>
        <p:spPr>
          <a:xfrm>
            <a:off x="2357280" y="5572080"/>
            <a:ext cx="207180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=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1071720"/>
          <a:ext cx="8215200" cy="15890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7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5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7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3 6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 8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5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7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3 6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 0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Диаграмма 15" descr=""/>
          <p:cNvPicPr/>
          <p:nvPr/>
        </p:nvPicPr>
        <p:blipFill>
          <a:blip r:embed="rId2"/>
          <a:stretch/>
        </p:blipFill>
        <p:spPr>
          <a:xfrm>
            <a:off x="133200" y="2919240"/>
            <a:ext cx="879804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25" descr=""/>
          <p:cNvPicPr/>
          <p:nvPr/>
        </p:nvPicPr>
        <p:blipFill>
          <a:blip r:embed="rId2"/>
          <a:stretch/>
        </p:blipFill>
        <p:spPr>
          <a:xfrm>
            <a:off x="274680" y="-6480"/>
            <a:ext cx="8924760" cy="501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642960" y="3571920"/>
          <a:ext cx="7929720" cy="3143160"/>
        </p:xfrm>
        <a:graphic>
          <a:graphicData uri="http://schemas.openxmlformats.org/drawingml/2006/table">
            <a:tbl>
              <a:tblPr/>
              <a:tblGrid>
                <a:gridCol w="407196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8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506520" y="706320"/>
            <a:ext cx="8130960" cy="58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55</cp:lastModifiedBy>
  <dcterms:modified xsi:type="dcterms:W3CDTF">2024-06-25T08:14:58Z</dcterms:modified>
  <cp:revision>78</cp:revision>
  <dc:subject/>
  <dc:title>Слайд 1</dc:title>
</cp:coreProperties>
</file>